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C52-2402-4400-9B80-98A7ECC0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460F-DC94-4364-9280-FB36D4AF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FCB8-5296-4CC3-9292-40052DFD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7B6-08D9-41F1-955E-17DFD38A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739A-4513-4788-BBC6-72DC282B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4B7-4D01-4B7C-84C1-16FE41C0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27F-F0A0-478B-A44A-1DDCB8E3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B314-4018-44AA-9D83-7C5C7792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6AC3-C6F2-4DC9-AE61-4B70181C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C81-7AE1-4623-937A-AB382C45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58A-F588-4AFA-AFBB-B6C3553D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C6D-7E7C-468C-B70F-C80A5EA1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807B-748E-4E7D-9568-DFCD07E21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ussia’s Tough P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yle Murphy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garet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evan 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lavs built civilization around modern day Kiev in 800 C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civilization was called Kievan 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n Orthodox Christianity was accepted in 1000 C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often trading with Western Europe and Mediterran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gol Trou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ngols interrupted Kievan Rus’ trading with other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343400" y="7772400"/>
            <a:ext cx="7632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17524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9:04:09Z</dcterms:created>
  <dc:creator> </dc:creator>
  <dc:description/>
  <dc:language>en-US</dc:language>
  <cp:lastModifiedBy> </cp:lastModifiedBy>
  <dcterms:modified xsi:type="dcterms:W3CDTF">2010-12-14T19:17:47Z</dcterms:modified>
  <cp:revision>3</cp:revision>
  <dc:subject/>
  <dc:title>Russia’s Tough Past</dc:title>
</cp:coreProperties>
</file>